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8EF-E758-4E2A-BAC7-9163A01E5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 was afraid of being bombed by the Soviets, who were making nuclear weap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Van Allen, designer of Explor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ical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americans either approved or did not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B0B-4A3D-4466-BEEB-767B27D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04F-F5AB-4F25-85C2-0441233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A68-D328-44A4-8384-C22AB54A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D1B-7161-4DC2-B936-233B9D9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F79-BAE2-4DAD-B909-E519AD7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99B-7C82-443C-AFE3-4B086FA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4D3-F022-455C-ADFE-673D060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6C2-D912-4910-B896-B5BAA6E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E0D-FAC3-4303-BC4F-F2311B8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E00-E071-4E6F-BAF3-918212D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C6F-202E-476B-9F4A-EBCB650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3DD-54F8-46F0-9917-3FCFFB1E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C4F2DC9-4B79-4B43-AA83-B90F22451AF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issa Mulc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ter We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41680" y="838080"/>
            <a:ext cx="5321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The Space Rac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"spoon-fed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o ea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ic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95, Progressive Education Association clo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fe-adjustm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academic standards, especially in mathematics and sc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Defense Education Act of 195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$887 Million federal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fundemental ideas, scientific inquiry, mathematic problem-sol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Academy of Sciences (N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Academy of Engineering (NA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Mathematical Society (A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litical Imp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litics was seldom scathed by the Sputnik launch; however, the illusion of the "Missile Gap" was the heat of debate in the 1960 presidenti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viets surpassed US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viet Premier Nikita Khrushchev attempted to inflame American feelings of inferi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Missile G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ficency in production of missiles as compared to the Sovi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d Americans to believe that Soviets were far ahead of the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ter of Kennedy's campa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d to Cuban Missile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92840" y="396252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960 Presidential Election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rge imp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nnedy used it to help his campa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ger of US inferi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% of Americans believed in the false "Missile Gap", affected their v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ear reason why he won against Nix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13680" y="3657600"/>
            <a:ext cx="25509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cial Imp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s developed a new aware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awareness of civil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reased its attention to civil rights, poverty, and an escalating war in Vietna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a of protest that education did not 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ated f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mb shelter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opled worried whether USSR would attack US/launch missle from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s did bomb-attack dr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99280" y="5079960"/>
            <a:ext cx="31446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66652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3120" cy="56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bee, Rodger. "The Sputnik Era: Why is this Educational Reform Different from All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orms?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flecting on Sputni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997): n. pag. Web. 4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nationalacademies.org/sputnik/bybee2.htm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k, Steven. "Assessing the impact of space on society ." n. pag. Web. 4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sciencedirect.com&gt;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Early NASA Er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PL Time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 pag. Web. 9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beacon.jpl.nasa.gov/Find/Timeline/Eras/earlynasa.html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tchinson,Daniel."MissileGap.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harp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eb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sharpeonline.com/SOLR/a/searchedContent/6/book006-PART1-        article360&gt;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National Defense Education Act of 1958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o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9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enotes.com/1950-education-american-decades/national-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-act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ith, Rodger. "United States Launches Its First Orbiting Satellit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alem Pr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history.salempress.com/doi/full/10.3331/GE20b_2621030422?prevSearch=%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-101880"/>
            <a:ext cx="905508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How did the successful launch of the Soviet </a:t>
            </a: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impact the United Stat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95520" y="2743200"/>
            <a:ext cx="33688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About the Ra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 of Nuclear Arms Race (ICB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-19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viet Russia v. Unit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viets: wanted control of space to easily bomb the U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A: spy satellite to warn the homeland of Soviet 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Launc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tober 4, 19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utnik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bited the Earth every 96.1 minu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d Americans; rose f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inerated upon reentering the atmosphere January 3rd, 195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mpact Overview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ace Program (NASA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litics (“Missile Gap”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Space Progra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ga Proje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; January 31, 1958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NAS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; October 1, 1958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asteful tax dollars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ay, 1961: Kennedy announced goal to land Americans on the moo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xplor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000" y="21337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rcled Earth on January 31, 195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d a scientific surprise that was important for later piloted spacef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osted the United States’s technological self-este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ibution to the understanding of outer space and the establishment of the National Aeronautics and Space Administration (NA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05720" y="101520"/>
            <a:ext cx="27432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117080"/>
            <a:ext cx="966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 October 1, 1958, NASA beg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ga Project (Explor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ident John F. Kennedy announced a program to land Americans on the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nger, Surveyor, Prospector, Ap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ner 2 ---USA launch to Venus, finally ahead of Sovi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ly 1969 --- USA first to put a man on the mo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84880" y="4165560"/>
            <a:ext cx="3736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2844720"/>
            <a:ext cx="94932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Drastic education revolution toward mathematics and scienc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40160" y="4267080"/>
            <a:ext cx="4363920" cy="311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304920"/>
            <a:ext cx="2396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30525</cp:lastModifiedBy>
  <dcterms:modified xsi:type="dcterms:W3CDTF">2010-06-10T14:41:11Z</dcterms:modified>
  <cp:revision>4</cp:revision>
  <dc:subject/>
  <dc:title>PowerPoint Presentation</dc:title>
</cp:coreProperties>
</file>